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FC2-DF24-4A2E-9A61-C800718C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6C1-EBB0-49AC-BC38-CBCEF334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85A-2C1A-4D9C-A6BA-15DF5B4C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B2E-6D54-4391-BCCD-B7FA1128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B00-4736-4619-84E3-A9030456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F283-128F-4CE8-AE31-A837F61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CBD2-8A91-4ABA-AFD5-2CFBEA0D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8ACF-8F99-41B5-AE66-9B8ADCC5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F115-57E3-4F24-950B-C43B03C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6040-C695-4143-A6BE-4C803D9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0DAB-B9C7-48DF-98A6-20DDFEBA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4C5-BCD9-42BC-BC00-C39A6C35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A0BE-F068-4B09-8F0F-4C7824C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441-5C90-443A-BEE8-3DDEA7F6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0D6B-5A20-4ADD-9CF6-C60935D1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0E0D-F124-4160-8B43-D5E9C614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E0F0-62F4-4754-AC6D-6989E555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5B4-24E8-4884-90B8-9D78D6B4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6B9-4ECC-4788-9F60-34F5CEB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553-37F7-49BB-9AFD-1814A7F6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ED6-D1B3-4050-AE41-95C17A51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879-1D35-4978-9C44-65D86B1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207-90BD-457B-806D-B73AF84F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039-142B-4884-BDA2-6F71820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810A-DCB3-4979-8F2F-65FFFD5ABB7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A702-E507-457C-BCDC-DE0ADF9E47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200"/>
                </a:solidFill>
                <a:latin typeface="Comic Sans MS"/>
              </a:rPr>
              <a:t>Colours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d - wh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5817960" cy="387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ange - karak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5040360" cy="37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ellow - kowha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40072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- 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24000" y="235116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28:40Z</dcterms:created>
  <dc:creator>andrea.robertson</dc:creator>
  <dc:description/>
  <dc:language>en-US</dc:language>
  <cp:lastModifiedBy>andrea.robertson</cp:lastModifiedBy>
  <dcterms:modified xsi:type="dcterms:W3CDTF">2006-03-06T22:40:29Z</dcterms:modified>
  <cp:revision>3</cp:revision>
  <dc:subject/>
  <dc:title>Colours</dc:title>
</cp:coreProperties>
</file>